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3F84-3513-4D72-9B5D-A4FEBC04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FEBA-6457-4E53-B5B4-3AD368E0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1164-5523-4D50-83A7-7278B6E0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5EA1-C6B1-4C65-9B9A-66D3E524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4CC4-9DF6-4710-A25F-76E866FE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2638-01AB-4DD5-9C87-FA48EB41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C8E3-5E5B-4E7D-8C9A-F234EB6F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F372-DD8F-4664-94A1-8F637B80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705A-F21A-48F0-B67D-8E8D9015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BE0A-D5F2-45A7-B7A2-858C90DA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E37C-4608-4C75-9543-5178D7EB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45F8-037E-4E25-B9D0-906FCFE0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9428-1EF8-4502-AEB6-9E394862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CA7B-FF77-4AF8-B124-D2D4370D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D3D5-4930-479C-9B22-067E6619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FF37-B112-4B4A-838B-80E052E0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9C9A-31D8-423A-83DE-E937AC56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1F9-42C2-4FFA-91EB-867C2736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596-4F7A-4475-8A9A-E98962CC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E178-8483-4174-8B3A-D8B91852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048D-D569-4B5A-AAF8-D81E9697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A63-7840-41C6-9941-3C6DDD5E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6726-69C1-417C-8165-23D66B45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07B0-E422-481E-A0E8-80E85045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0541-AB9C-4AAA-813B-469F587F70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D450-7479-4E8C-A412-D7D51029B9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av.rds.yahoo.com/_ylt=A0Je5XAPbqtEJYYBL1.HBqMX;_ylu=X3oDMTBwanIybjRqBHBndANhdHdfaW1nX3Jlc3VsdARzZWMDc3I-/SIG=11u4396fu/EXP=1152171919/**http%3A//www.ale-lyon.org/ImageEtiketNRJ.gif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av.rds.yahoo.com/_ylt=A0Je5XXacqtE.CYBt16HBqMX;_ylu=X3oDMTBwanIybjRqBHBndANhdHdfaW1nX3Jlc3VsdARzZWMDc3I-/SIG=12u3i6t66/EXP=1152173146/**http%3A//newsimg.bbc.co.uk/media/images/39114000/jpg/_39114577_petrol203.jpg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av.rds.yahoo.com/_ylt=A0Je5XJIc6tE1YcAWJ6HBqMX;_ylu=X3oDMTBwanIybjRqBHBndANhdHdfaW1nX3Jlc3VsdARzZWMDc3I-/SIG=12fppc03n/EXP=1152173256/**http%3A//www.ville-bondy.fr/environnement/image/poubelle1.jpg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5280" y="981000"/>
            <a:ext cx="560520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'environnemen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51280" y="3789360"/>
            <a:ext cx="2295360" cy="244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221720" y="189000"/>
            <a:ext cx="461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8f326"/>
                </a:solidFill>
                <a:uFillTx/>
                <a:latin typeface="Comic Sans MS"/>
              </a:rPr>
              <a:t>mardi 20 mai 200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 u="sng">
                <a:solidFill>
                  <a:srgbClr val="e5ffff"/>
                </a:solidFill>
                <a:uFillTx/>
                <a:latin typeface="Tahoma"/>
              </a:rPr>
              <a:t>QU’EST-CE QU’ON PEUT FAIRE?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5ffff"/>
                </a:solidFill>
                <a:latin typeface="Perpetua Titling MT"/>
              </a:rPr>
              <a:t>Les trois </a:t>
            </a:r>
            <a:r>
              <a:rPr b="1" lang="en-GB" sz="6000" spc="-1" strike="noStrike">
                <a:solidFill>
                  <a:srgbClr val="f8f326"/>
                </a:solidFill>
                <a:latin typeface="Perpetua Titling MT"/>
              </a:rPr>
              <a:t>“R”</a:t>
            </a:r>
            <a:r>
              <a:rPr b="1" lang="en-GB" sz="6000" spc="-1" strike="noStrike">
                <a:solidFill>
                  <a:srgbClr val="e5ffff"/>
                </a:solidFill>
                <a:latin typeface="Perpetua Titling MT"/>
              </a:rPr>
              <a:t> de l’environnement</a:t>
            </a:r>
            <a:br>
              <a:rPr sz="6000"/>
            </a:br>
            <a:br>
              <a:rPr sz="6000"/>
            </a:br>
            <a:r>
              <a:rPr b="1" lang="en-GB" sz="6000" spc="-1" strike="noStrike">
                <a:solidFill>
                  <a:srgbClr val="e5ffff"/>
                </a:solidFill>
                <a:latin typeface="Perpetua Titling MT"/>
              </a:rPr>
              <a:t>POUVEZ VOUS ME DONNER UN EXEMPLE?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4920" y="189000"/>
            <a:ext cx="4390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8f326"/>
                </a:solidFill>
                <a:uFillTx/>
                <a:latin typeface="Comic Sans MS"/>
              </a:rPr>
              <a:t>Réduire</a:t>
            </a:r>
            <a:r>
              <a:rPr b="1" lang="en-GB" sz="6000" spc="-1" strike="noStrike">
                <a:solidFill>
                  <a:srgbClr val="f8f326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8f326"/>
                </a:solidFill>
                <a:latin typeface="Comic Sans MS"/>
              </a:rPr>
              <a:t>On peut réduire…la pollution…la consommation… / les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5292720" y="836640"/>
            <a:ext cx="3527280" cy="4969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cc"/>
                </a:solidFill>
                <a:latin typeface="Comic Sans MS"/>
              </a:rPr>
              <a:t>voyages en voiture/av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Comic Sans MS"/>
              </a:rPr>
              <a:t>empreint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Comic Sans MS"/>
              </a:rPr>
              <a:t>    </a:t>
            </a:r>
            <a:r>
              <a:rPr b="1" lang="en-GB" sz="4000" spc="-1" strike="noStrike">
                <a:solidFill>
                  <a:srgbClr val="003366"/>
                </a:solidFill>
                <a:latin typeface="Comic Sans MS"/>
              </a:rPr>
              <a:t>écologiqu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cc"/>
                </a:solidFill>
                <a:latin typeface="Comic Sans MS"/>
                <a:ea typeface="Arial"/>
              </a:rPr>
              <a:t>éléctricit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Comic Sans MS"/>
              </a:rPr>
              <a:t>ess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cc"/>
                </a:solidFill>
                <a:latin typeface="Comic Sans MS"/>
              </a:rPr>
              <a:t>ea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 u="sng">
                <a:solidFill>
                  <a:srgbClr val="f8f326"/>
                </a:solidFill>
                <a:uFillTx/>
                <a:latin typeface="Comic Sans MS"/>
              </a:rPr>
              <a:t>Réutiliser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8f326"/>
                </a:solidFill>
                <a:latin typeface="Comic Sans MS"/>
              </a:rPr>
              <a:t> </a:t>
            </a:r>
            <a:r>
              <a:rPr b="1" lang="en-GB" sz="6000" spc="-1" strike="noStrike">
                <a:solidFill>
                  <a:srgbClr val="f8f326"/>
                </a:solidFill>
                <a:latin typeface="Comic Sans MS"/>
              </a:rPr>
              <a:t>On peut réutiliser le / la / les…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2253600" y="4905360"/>
            <a:ext cx="3536640" cy="1312920"/>
          </a:xfrm>
          <a:prstGeom prst="rect">
            <a:avLst/>
          </a:prstGeom>
          <a:solidFill>
            <a:srgbClr val="21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s--- e- ------q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</a:rPr>
              <a:t>p---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16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 u="sng">
                <a:solidFill>
                  <a:srgbClr val="f8f326"/>
                </a:solidFill>
                <a:uFillTx/>
                <a:latin typeface="Comic Sans MS"/>
              </a:rPr>
              <a:t>Recycler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8f326"/>
                </a:solidFill>
                <a:latin typeface="Comic Sans MS"/>
              </a:rPr>
              <a:t> </a:t>
            </a:r>
            <a:r>
              <a:rPr b="1" lang="en-GB" sz="5400" spc="-1" strike="noStrike">
                <a:solidFill>
                  <a:srgbClr val="f8f326"/>
                </a:solidFill>
                <a:latin typeface="Comic Sans MS"/>
              </a:rPr>
              <a:t>On peut recycler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8f326"/>
                </a:solidFill>
                <a:latin typeface="Comic Sans MS"/>
              </a:rPr>
              <a:t> </a:t>
            </a:r>
            <a:r>
              <a:rPr b="1" lang="en-GB" sz="5400" spc="-1" strike="noStrike">
                <a:solidFill>
                  <a:srgbClr val="f8f326"/>
                </a:solidFill>
                <a:latin typeface="Comic Sans MS"/>
              </a:rPr>
              <a:t>le/la/les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e5ffff"/>
                </a:solidFill>
                <a:uFillTx/>
                <a:latin typeface="Tahoma"/>
              </a:rPr>
              <a:t>traduisez en français s.v.p.</a:t>
            </a:r>
            <a:r>
              <a:rPr b="0" lang="en-GB" sz="6000" spc="-1" strike="noStrike">
                <a:solidFill>
                  <a:srgbClr val="e5ffff"/>
                </a:solidFill>
                <a:latin typeface="Tahoma"/>
              </a:rPr>
              <a:t>       3 minutes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 save electricity. For example I turn off the lights when I leave the ro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 save water. For example I turn off the tap when I brush my tee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 save petrol. For example I use public transpo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’économise l’électricité. Par exemple j’éteins les lumières quand je quitte une piè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’économise l’eau. Par exemple, je ferme le robinet quand je me brosse les d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’économise l’essence. Par exemple, j’utilise les transports en commu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1150920" cy="1120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708360" y="3716280"/>
            <a:ext cx="1152720" cy="11192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5219640" y="5734080"/>
            <a:ext cx="936720" cy="876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7596360" y="5373720"/>
            <a:ext cx="1223640" cy="1160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372360" y="5805360"/>
            <a:ext cx="934920" cy="360360"/>
          </a:xfrm>
          <a:prstGeom prst="rightArrow">
            <a:avLst>
              <a:gd name="adj1" fmla="val 50000"/>
              <a:gd name="adj2" fmla="val 6486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Exercic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vais au _____________une fois par sema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a mère________le verre et le plasti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__________l’énergie : nous ________la télé avant de sort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ne ________ pas la consommation d’ess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jette mes _______ dans la poubel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Exercic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vais au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e fois par sema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a mère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 verre et le plasti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’énergie : nous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 télé avant de sort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n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as la consommation d’ess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jette me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ans la poubel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916360" y="1484280"/>
            <a:ext cx="38145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entre de recycl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71640" y="2492280"/>
            <a:ext cx="216072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3500280"/>
            <a:ext cx="2808360" cy="505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économis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95640" y="4581360"/>
            <a:ext cx="180000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édu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5516640"/>
            <a:ext cx="2016000" cy="433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éch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4005360"/>
            <a:ext cx="237672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éteign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e5ffff"/>
                </a:solidFill>
                <a:latin typeface="Tahoma"/>
              </a:rPr>
              <a:t>ET VOUS ?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8f326"/>
                </a:solidFill>
                <a:latin typeface="Tahoma"/>
              </a:rPr>
              <a:t>QU’EST-CE QUE VOUS FAITES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8f326"/>
                </a:solidFill>
                <a:latin typeface="Tahoma"/>
              </a:rPr>
              <a:t>OU QU’EST-CE QUE VOUS AVEZ FAIT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189000"/>
            <a:ext cx="8353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Comic Sans MS"/>
              </a:rPr>
              <a:t>Objectif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o be able to introduce and analyse environmental </a:t>
            </a:r>
            <a:r>
              <a:rPr b="1" lang="en-US" sz="3600" spc="-1" strike="noStrike">
                <a:solidFill>
                  <a:srgbClr val="f8f326"/>
                </a:solidFill>
                <a:latin typeface="Comic Sans MS"/>
              </a:rPr>
              <a:t>fa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o express and justify </a:t>
            </a:r>
            <a:r>
              <a:rPr b="0" lang="en-US" sz="3600" spc="-1" strike="noStrike">
                <a:solidFill>
                  <a:srgbClr val="f8f326"/>
                </a:solidFill>
                <a:latin typeface="Comic Sans MS"/>
              </a:rPr>
              <a:t>opinio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o </a:t>
            </a:r>
            <a:r>
              <a:rPr b="1" lang="en-US" sz="3600" spc="-1" strike="noStrike">
                <a:solidFill>
                  <a:srgbClr val="f8f326"/>
                </a:solidFill>
                <a:latin typeface="Comic Sans MS"/>
              </a:rPr>
              <a:t>speculat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bou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hat you would do if you had more money, time and political po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ow problems could be solv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hat might happen if they are not resolv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Perpetua Titling MT"/>
              </a:rPr>
              <a:t>A ton avis, qu’est-ce qu’il </a:t>
            </a: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faudrait</a:t>
            </a:r>
            <a:r>
              <a:rPr b="0" lang="en-GB" sz="4000" spc="-1" strike="noStrike">
                <a:solidFill>
                  <a:srgbClr val="e5ffff"/>
                </a:solidFill>
                <a:latin typeface="Perpetua Titling MT"/>
              </a:rPr>
              <a:t> faire pour plus proteger l’environnement 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mon avis, il faudrait plus recycler tous les déche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l faudrait aussi économiser l’énergie en général: l’électricité et l’ess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 Terre n’est pas une poubelle ! Il ne faudrait pas jeter les déchets par ter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64000" y="4437000"/>
            <a:ext cx="720720" cy="684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27640" y="4437000"/>
            <a:ext cx="865080" cy="6447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95640" y="5950080"/>
            <a:ext cx="666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5ffff"/>
                </a:solidFill>
                <a:latin typeface="Tahoma"/>
              </a:rPr>
              <a:t>To achieve high marks: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326"/>
                </a:solidFill>
                <a:latin typeface="Perpetua Titling MT"/>
              </a:rPr>
              <a:t>Show knowledge of basic facts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Comic Sans MS"/>
              </a:rPr>
              <a:t>Quels sont les grands problèmes de l’environnement en général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326"/>
                </a:solidFill>
                <a:latin typeface="Perpetua Titling MT"/>
              </a:rPr>
              <a:t>Show knowledge of additional facts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Quelles sont les r</a:t>
            </a: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é</a:t>
            </a: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actions des politiciens, des pays qui pourraient influencer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5589720"/>
            <a:ext cx="34560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8f326"/>
                </a:solidFill>
                <a:latin typeface="Comic Sans MS"/>
              </a:rPr>
              <a:t>Research needed f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8f326"/>
                </a:solidFill>
                <a:latin typeface="Comic Sans MS"/>
              </a:rPr>
              <a:t>hom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326"/>
                </a:solidFill>
                <a:latin typeface="Perpetua Titling MT"/>
              </a:rPr>
              <a:t>Show knowledge of additional facts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Que penses-tu du film de Monsieur Al Gor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Une _ _ _ _ _ _ qu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dé _ _ _ _ _’ </a:t>
            </a: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5435640" y="5589720"/>
            <a:ext cx="34560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8f326"/>
                </a:solidFill>
                <a:latin typeface="Comic Sans MS"/>
              </a:rPr>
              <a:t>Research needed f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8f326"/>
                </a:solidFill>
                <a:latin typeface="Comic Sans MS"/>
              </a:rPr>
              <a:t>hom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8f326"/>
                </a:solidFill>
                <a:latin typeface="Tahoma"/>
              </a:rPr>
              <a:t>Express opinion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ahoma"/>
              </a:rPr>
              <a:t>Tu penses que ces probl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è</a:t>
            </a:r>
            <a:r>
              <a:rPr b="1" lang="en-GB" sz="4800" spc="-1" strike="noStrike">
                <a:solidFill>
                  <a:srgbClr val="ffffff"/>
                </a:solidFill>
                <a:latin typeface="Tahoma"/>
              </a:rPr>
              <a:t>mes sont vrais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ahoma"/>
              </a:rPr>
              <a:t>Tu crois que l’humanit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1" lang="en-GB" sz="4800" spc="-1" strike="noStrike">
                <a:solidFill>
                  <a:srgbClr val="ffffff"/>
                </a:solidFill>
                <a:latin typeface="Tahoma"/>
              </a:rPr>
              <a:t> peut r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1" lang="en-GB" sz="4800" spc="-1" strike="noStrike">
                <a:solidFill>
                  <a:srgbClr val="ffffff"/>
                </a:solidFill>
                <a:latin typeface="Tahoma"/>
              </a:rPr>
              <a:t>soudre ces probl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è</a:t>
            </a:r>
            <a:r>
              <a:rPr b="1" lang="en-GB" sz="4800" spc="-1" strike="noStrike">
                <a:solidFill>
                  <a:srgbClr val="ffffff"/>
                </a:solidFill>
                <a:latin typeface="Tahoma"/>
              </a:rPr>
              <a:t>mes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8f326"/>
                </a:solidFill>
                <a:latin typeface="Tahoma"/>
              </a:rPr>
              <a:t>Give a reason for your opinions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Tahoma"/>
              </a:rPr>
              <a:t>Pourquoi penses-tu 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Tahoma"/>
              </a:rPr>
              <a:t>Comment es-tu arriv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é à tes conclusions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8f326"/>
                </a:solidFill>
                <a:latin typeface="Tahoma"/>
              </a:rPr>
              <a:t>Speculate using conditional claus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Tahoma"/>
              </a:rPr>
              <a:t>Si tu avais le temps et les moyens tu aimerais faire quelque chose pour l’environnement?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8f326"/>
                </a:solidFill>
                <a:latin typeface="Tahoma"/>
              </a:rPr>
              <a:t>Speculate using conditional claus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2205000"/>
            <a:ext cx="799308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Qu’est-ce que tu aimerais changer si tu avais le pouvoir, comme Premier Ministre par exempl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8f326"/>
                </a:solidFill>
                <a:latin typeface="Tahoma"/>
              </a:rPr>
              <a:t>Speculate using conditional claus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2133720"/>
            <a:ext cx="8064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Comic Sans MS"/>
              </a:rPr>
              <a:t>Qu’est-ce qui arrivera sur Terre, si rien  ne change et les probl</a:t>
            </a: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è</a:t>
            </a:r>
            <a:r>
              <a:rPr b="1" lang="en-GB" sz="6000" spc="-1" strike="noStrike">
                <a:solidFill>
                  <a:srgbClr val="ffffff"/>
                </a:solidFill>
                <a:latin typeface="Comic Sans MS"/>
              </a:rPr>
              <a:t>mes continuent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35640" y="5589720"/>
            <a:ext cx="34560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8f326"/>
                </a:solidFill>
                <a:latin typeface="Comic Sans MS"/>
              </a:rPr>
              <a:t>Research needed f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8f326"/>
                </a:solidFill>
                <a:latin typeface="Comic Sans MS"/>
              </a:rPr>
              <a:t>hom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e5ffff"/>
                </a:solidFill>
                <a:uFillTx/>
                <a:latin typeface="Perpetua Titling MT"/>
              </a:rPr>
              <a:t>Quels sont les grands problèmes de l’environnement 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’effet de serre – les CF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 réchauffement de la planè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 pollution de l’ea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s pluies aci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 pollution atmosphéri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s espèces en voie de disparition. Exemple: le pan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27640" y="5445000"/>
            <a:ext cx="1224000" cy="1068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438800" y="5452920"/>
            <a:ext cx="1223640" cy="1068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843280" y="2060640"/>
            <a:ext cx="1224000" cy="504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2637000"/>
            <a:ext cx="2952720" cy="43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3068640"/>
            <a:ext cx="158292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3789360"/>
            <a:ext cx="115236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5280" y="4365720"/>
            <a:ext cx="215892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5013360"/>
            <a:ext cx="1584360" cy="504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4941720"/>
            <a:ext cx="8650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8f326"/>
                </a:solidFill>
                <a:latin typeface="Tahoma"/>
              </a:rPr>
              <a:t>Speculate using conditional clause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213372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Comic Sans MS"/>
              </a:rPr>
              <a:t>Que va se passer dans cinquante ans ou plus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35640" y="5589720"/>
            <a:ext cx="34560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8f326"/>
                </a:solidFill>
                <a:latin typeface="Comic Sans MS"/>
              </a:rPr>
              <a:t>Research needed f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8f326"/>
                </a:solidFill>
                <a:latin typeface="Comic Sans MS"/>
              </a:rPr>
              <a:t>hom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5280" y="189000"/>
            <a:ext cx="8748720" cy="68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ff"/>
                </a:solidFill>
                <a:uFillTx/>
                <a:latin typeface="Comic Sans MS"/>
              </a:rPr>
              <a:t>LE PLENUM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Comic Sans MS"/>
              </a:rPr>
              <a:t>PRESENTATION IN PAI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8f32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8f326"/>
                </a:solidFill>
                <a:uFillTx/>
                <a:latin typeface="Comic Sans MS"/>
              </a:rPr>
              <a:t>Les faits</a:t>
            </a:r>
            <a:r>
              <a:rPr b="1" lang="en-GB" sz="4000" spc="-1" strike="noStrike">
                <a:solidFill>
                  <a:srgbClr val="f8f326"/>
                </a:solidFill>
                <a:latin typeface="Comic Sans MS"/>
              </a:rPr>
              <a:t> (points de vu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8f32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8f326"/>
                </a:solidFill>
                <a:uFillTx/>
                <a:latin typeface="Comic Sans MS"/>
              </a:rPr>
              <a:t>Avis</a:t>
            </a:r>
            <a:r>
              <a:rPr b="1" lang="en-US" sz="4000" spc="-1" strike="noStrike">
                <a:solidFill>
                  <a:srgbClr val="f8f326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8f326"/>
                </a:solidFill>
                <a:uFillTx/>
                <a:latin typeface="Comic Sans MS"/>
              </a:rPr>
              <a:t>Spéculations</a:t>
            </a:r>
            <a:r>
              <a:rPr b="1" lang="en-US" sz="4000" spc="-1" strike="noStrike">
                <a:solidFill>
                  <a:srgbClr val="f8f326"/>
                </a:solidFill>
                <a:latin typeface="Comic Sans MS"/>
              </a:rPr>
              <a:t> (</a:t>
            </a:r>
            <a:r>
              <a:rPr b="1" lang="en-GB" sz="3200" spc="-1" strike="noStrike">
                <a:solidFill>
                  <a:srgbClr val="f8f326"/>
                </a:solidFill>
                <a:latin typeface="Comic Sans MS"/>
              </a:rPr>
              <a:t>sur le pr</a:t>
            </a:r>
            <a:r>
              <a:rPr b="1" lang="en-US" sz="3200" spc="-1" strike="noStrike">
                <a:solidFill>
                  <a:srgbClr val="f8f326"/>
                </a:solidFill>
                <a:latin typeface="Comic Sans MS"/>
              </a:rPr>
              <a:t>é</a:t>
            </a:r>
            <a:r>
              <a:rPr b="1" lang="en-GB" sz="3200" spc="-1" strike="noStrike">
                <a:solidFill>
                  <a:srgbClr val="f8f326"/>
                </a:solidFill>
                <a:latin typeface="Comic Sans MS"/>
              </a:rPr>
              <a:t>sent, pass</a:t>
            </a:r>
            <a:r>
              <a:rPr b="1" lang="en-US" sz="3200" spc="-1" strike="noStrike">
                <a:solidFill>
                  <a:srgbClr val="f8f326"/>
                </a:solidFill>
                <a:latin typeface="Comic Sans MS"/>
              </a:rPr>
              <a:t>é </a:t>
            </a:r>
            <a:r>
              <a:rPr b="1" lang="en-GB" sz="3200" spc="-1" strike="noStrike">
                <a:solidFill>
                  <a:srgbClr val="f8f326"/>
                </a:solidFill>
                <a:latin typeface="Comic Sans MS"/>
              </a:rPr>
              <a:t>futu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Comic Sans MS"/>
              </a:rPr>
              <a:t>Teacher and student assessmen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Comic Sans MS"/>
              </a:rPr>
              <a:t>CONT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Comic Sans MS"/>
              </a:rPr>
              <a:t>GRAMM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Comic Sans MS"/>
              </a:rPr>
              <a:t>PRONUNCI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95280" y="189000"/>
            <a:ext cx="874872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ff"/>
                </a:solidFill>
                <a:uFillTx/>
                <a:latin typeface="Comic Sans MS"/>
              </a:rPr>
              <a:t>LE PLENUM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Comic Sans MS"/>
              </a:rPr>
              <a:t>PRESENTATION IN PAI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Comic Sans MS"/>
              </a:rPr>
              <a:t>Teacher and student assessmen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ff"/>
                </a:solidFill>
                <a:uFillTx/>
                <a:latin typeface="Comic Sans MS"/>
              </a:rPr>
              <a:t>CONT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ff"/>
                </a:solidFill>
                <a:uFillTx/>
                <a:latin typeface="Comic Sans MS"/>
              </a:rPr>
              <a:t>GRAMM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ff"/>
                </a:solidFill>
                <a:uFillTx/>
                <a:latin typeface="Comic Sans MS"/>
              </a:rPr>
              <a:t>PRONUNCI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e5ffff"/>
                </a:solidFill>
                <a:uFillTx/>
                <a:latin typeface="Comic Sans MS"/>
              </a:rPr>
              <a:t>DEVOIRS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UNIT 6.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DISCURSIVE ESS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Comic Sans MS"/>
              </a:rPr>
              <a:t>BONNE CHANCE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3213000"/>
            <a:ext cx="34560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8f326"/>
                </a:solidFill>
                <a:latin typeface="Comic Sans MS"/>
              </a:rPr>
              <a:t>Research needed f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8f326"/>
                </a:solidFill>
                <a:latin typeface="Comic Sans MS"/>
              </a:rPr>
              <a:t>hom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e5ffff"/>
                </a:solidFill>
                <a:latin typeface="Tahoma"/>
              </a:rPr>
              <a:t>QUELLE EST LA DURÉE DE VIE DANS LE SOL DES PRODUITS SUIVANTS?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00000" y="0"/>
          <a:ext cx="7704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0"/>
                    <a:ext cx="7704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050920" y="2276640"/>
            <a:ext cx="6481800" cy="24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4724280"/>
            <a:ext cx="6408720" cy="1924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Durée de vie des d</a:t>
            </a:r>
            <a:r>
              <a:rPr b="1" lang="en-US" sz="4000" spc="-1" strike="noStrike">
                <a:solidFill>
                  <a:srgbClr val="e5ffff"/>
                </a:solidFill>
                <a:latin typeface="Perpetua Titling MT"/>
              </a:rPr>
              <a:t>É</a:t>
            </a: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che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-688824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765000"/>
            <a:ext cx="85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03280" y="692280"/>
          <a:ext cx="585000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692280"/>
                    <a:ext cx="585000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125360"/>
            <a:ext cx="565164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issé dans les rues ou mis en décharge, le déchet vit encore ! 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La durée de vie d'un déchet dépend bien sûr de sa composition mais aussi des actions que nous faisons tous les jours.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 déchet qui pose le moins de problème, qui ne pollue pas et qui coûte le moins cher, c’est donc celui qu’on ne produit pas !!!!!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260280"/>
            <a:ext cx="6264360" cy="914400"/>
          </a:xfrm>
          <a:prstGeom prst="rect">
            <a:avLst/>
          </a:prstGeom>
          <a:solidFill>
            <a:srgbClr val="f8f3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Comic Sans MS"/>
              </a:rPr>
              <a:t>TROUVEZ LES VERBES (4’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1628640"/>
            <a:ext cx="2879640" cy="4753080"/>
          </a:xfrm>
          <a:prstGeom prst="rect">
            <a:avLst/>
          </a:prstGeom>
          <a:solidFill>
            <a:srgbClr val="f8f32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omic Sans MS"/>
              </a:rPr>
              <a:t>laiss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omic Sans MS"/>
              </a:rPr>
              <a:t>met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omic Sans MS"/>
              </a:rPr>
              <a:t>pollu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omic Sans MS"/>
              </a:rPr>
              <a:t>produ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omic Sans MS"/>
              </a:rPr>
              <a:t>viv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omic Sans MS"/>
              </a:rPr>
              <a:t>dépendre 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omic Sans MS"/>
              </a:rPr>
              <a:t>fa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omic Sans MS"/>
              </a:rPr>
              <a:t>po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Comic Sans MS"/>
              </a:rPr>
              <a:t>coû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1484280"/>
            <a:ext cx="1081080" cy="3621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59280" y="1484280"/>
            <a:ext cx="649440" cy="360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1844640"/>
            <a:ext cx="576360" cy="360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43280" y="2637000"/>
            <a:ext cx="1297080" cy="43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3860640"/>
            <a:ext cx="1368360" cy="28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4292640"/>
            <a:ext cx="914400" cy="288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11640" y="4581360"/>
            <a:ext cx="1152360" cy="360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40000" y="5013360"/>
            <a:ext cx="1079640" cy="360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5805360"/>
            <a:ext cx="1440000" cy="360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115920"/>
            <a:ext cx="8675640" cy="67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ffcc00"/>
                </a:solidFill>
                <a:latin typeface="Comic Sans MS"/>
              </a:rPr>
              <a:t>Laissé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dans les rues ou </a:t>
            </a:r>
            <a:r>
              <a:rPr b="0" lang="en-GB" sz="4000" spc="-1" strike="noStrike">
                <a:solidFill>
                  <a:srgbClr val="ffcc00"/>
                </a:solidFill>
                <a:latin typeface="Comic Sans MS"/>
              </a:rPr>
              <a:t>mis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en décharge, le déchet </a:t>
            </a:r>
            <a:r>
              <a:rPr b="0" lang="en-GB" sz="4000" spc="-1" strike="noStrike">
                <a:solidFill>
                  <a:srgbClr val="ffcc00"/>
                </a:solidFill>
                <a:latin typeface="Comic Sans MS"/>
              </a:rPr>
              <a:t>vit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encore ! </a:t>
            </a:r>
            <a:r>
              <a:rPr b="0" lang="de-DE" sz="4000" spc="-1" strike="noStrike">
                <a:solidFill>
                  <a:srgbClr val="ffffff"/>
                </a:solidFill>
                <a:latin typeface="Comic Sans MS"/>
              </a:rPr>
              <a:t>La durée de vie d'un déchet </a:t>
            </a:r>
            <a:r>
              <a:rPr b="0" lang="de-DE" sz="4000" spc="-1" strike="noStrike">
                <a:solidFill>
                  <a:srgbClr val="ffcc00"/>
                </a:solidFill>
                <a:latin typeface="Comic Sans MS"/>
              </a:rPr>
              <a:t>dépend</a:t>
            </a:r>
            <a:r>
              <a:rPr b="0" lang="de-DE" sz="4000" spc="-1" strike="noStrike">
                <a:solidFill>
                  <a:srgbClr val="ffffff"/>
                </a:solidFill>
                <a:latin typeface="Comic Sans MS"/>
              </a:rPr>
              <a:t> bien sûr </a:t>
            </a:r>
            <a:r>
              <a:rPr b="0" lang="de-DE" sz="4000" spc="-1" strike="noStrike">
                <a:solidFill>
                  <a:srgbClr val="ffcc00"/>
                </a:solidFill>
                <a:latin typeface="Comic Sans MS"/>
              </a:rPr>
              <a:t>de</a:t>
            </a:r>
            <a:r>
              <a:rPr b="0" lang="de-DE" sz="4000" spc="-1" strike="noStrike">
                <a:solidFill>
                  <a:srgbClr val="ffffff"/>
                </a:solidFill>
                <a:latin typeface="Comic Sans MS"/>
              </a:rPr>
              <a:t> sa composition mais aussi </a:t>
            </a:r>
            <a:r>
              <a:rPr b="0" lang="de-DE" sz="4000" spc="-1" strike="noStrike">
                <a:solidFill>
                  <a:srgbClr val="ffcc00"/>
                </a:solidFill>
                <a:latin typeface="Comic Sans MS"/>
              </a:rPr>
              <a:t>des</a:t>
            </a:r>
            <a:r>
              <a:rPr b="0" lang="de-DE" sz="4000" spc="-1" strike="noStrike">
                <a:solidFill>
                  <a:srgbClr val="ffffff"/>
                </a:solidFill>
                <a:latin typeface="Comic Sans MS"/>
              </a:rPr>
              <a:t> actions que nous </a:t>
            </a:r>
            <a:r>
              <a:rPr b="0" lang="de-DE" sz="4000" spc="-1" strike="noStrike">
                <a:solidFill>
                  <a:srgbClr val="ffcc00"/>
                </a:solidFill>
                <a:latin typeface="Comic Sans MS"/>
              </a:rPr>
              <a:t>faisons</a:t>
            </a:r>
            <a:r>
              <a:rPr b="0" lang="de-DE" sz="4000" spc="-1" strike="noStrike">
                <a:solidFill>
                  <a:srgbClr val="ffffff"/>
                </a:solidFill>
                <a:latin typeface="Comic Sans MS"/>
              </a:rPr>
              <a:t> tous les jours.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Le déchet qui </a:t>
            </a:r>
            <a:r>
              <a:rPr b="0" lang="en-GB" sz="4000" spc="-1" strike="noStrike">
                <a:solidFill>
                  <a:srgbClr val="ffcc00"/>
                </a:solidFill>
                <a:latin typeface="Comic Sans MS"/>
              </a:rPr>
              <a:t>pose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le moins de problème, qui ne </a:t>
            </a:r>
            <a:r>
              <a:rPr b="0" lang="en-GB" sz="4000" spc="-1" strike="noStrike">
                <a:solidFill>
                  <a:srgbClr val="ffcc00"/>
                </a:solidFill>
                <a:latin typeface="Comic Sans MS"/>
              </a:rPr>
              <a:t>pollue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pas et qui </a:t>
            </a:r>
            <a:r>
              <a:rPr b="0" lang="en-GB" sz="4000" spc="-1" strike="noStrike">
                <a:solidFill>
                  <a:srgbClr val="ffcc00"/>
                </a:solidFill>
                <a:latin typeface="Comic Sans MS"/>
              </a:rPr>
              <a:t>coûte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le moins cher, c’est donc celui qu’on ne </a:t>
            </a:r>
            <a:r>
              <a:rPr b="0" lang="en-GB" sz="4000" spc="-1" strike="noStrike">
                <a:solidFill>
                  <a:srgbClr val="ffcc00"/>
                </a:solidFill>
                <a:latin typeface="Comic Sans MS"/>
              </a:rPr>
              <a:t>produit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pas !!!!!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e5ffff"/>
                </a:solidFill>
                <a:uFillTx/>
                <a:latin typeface="Tahoma"/>
              </a:rPr>
              <a:t>Mon total: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</a:rPr>
              <a:t>9/9 verbes      excellent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</a:rPr>
              <a:t>8/9                  très bi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</a:rPr>
              <a:t>7/9                  bi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</a:rPr>
              <a:t>6/9                  assez bi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</a:rPr>
              <a:t>5/9                  suffisa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12:41:04Z</dcterms:created>
  <dc:creator>Virginie Passerat</dc:creator>
  <dc:description/>
  <dc:language>en-US</dc:language>
  <cp:lastModifiedBy>mariana zander</cp:lastModifiedBy>
  <dcterms:modified xsi:type="dcterms:W3CDTF">2008-09-15T18:23:45Z</dcterms:modified>
  <cp:revision>79</cp:revision>
  <dc:subject/>
  <dc:title>Slide 1</dc:title>
</cp:coreProperties>
</file>